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8.png" ContentType="image/png"/>
  <Override PartName="/ppt/media/image13.png" ContentType="image/png"/>
  <Override PartName="/ppt/media/image6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29BF-D7B9-4EA6-A95B-46E4E824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4F29-1EA4-4F32-A166-695FA168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A62B-5989-403C-B7DE-7D766EFB3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BAD9-3195-4521-A921-930C13C1B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FCA7-3F44-4FE6-B656-3195A897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ACE5-BDA8-44EE-BDE2-B67B15AC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E0F2-DC21-4D27-907B-A0CACC2C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CBFE-89BA-4185-849B-6C259B83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977E-31B9-4207-8F06-AE636462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B5BF-537E-4749-BA91-E0B3FF0D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62CE-1E52-4251-8BD1-7B9E8A64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F6F1-83BE-402D-8CDB-04869C72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07D5-770C-4389-8718-E524B74C4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br>
              <a:rPr sz="60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9 Re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352680" y="4267080"/>
            <a:ext cx="2514600" cy="20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53452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y the pa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= 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 = 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= 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= 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 = 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24000" y="1219320"/>
            <a:ext cx="394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uter membra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6640" y="3276720"/>
            <a:ext cx="570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ner membrane (crista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19320" y="23623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Intermembrane sp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13078" t="0" r="10628" b="0"/>
          <a:stretch/>
        </p:blipFill>
        <p:spPr>
          <a:xfrm>
            <a:off x="5334120" y="228600"/>
            <a:ext cx="3429000" cy="3187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373760" y="4495680"/>
            <a:ext cx="164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atr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954680" y="0"/>
            <a:ext cx="394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  <a:ea typeface="Arial"/>
              </a:rPr>
              <a:t>©</a:t>
            </a: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Pearson Education Inc; Publishing as Pearson Prentice Hall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17040" y="3049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49720" y="5486400"/>
            <a:ext cx="21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ytopla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ive the chemical equation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ctic acid fer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9810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yruvic 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+ NADH  →  lactic acid +  NAD</a:t>
            </a:r>
            <a:r>
              <a:rPr b="1" lang="en-US" sz="28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9400" y="3247920"/>
            <a:ext cx="800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fter glycolysis, which pathway w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yruvic acid follow if oxygen is pres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7242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It will enter the 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y the 3 stages of cellular respi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1 = 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2 = 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3 = 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00560" y="1295280"/>
            <a:ext cx="224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lyco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19051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93480" y="2514600"/>
            <a:ext cx="487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lectron transport ch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3200400"/>
            <a:ext cx="6019560" cy="3567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206680" y="6491160"/>
            <a:ext cx="39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©Pearson Education Inc; Publishing as Pearson Prentice H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ue or 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ly animal cells have mitochond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2240" y="1600200"/>
            <a:ext cx="808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alse; both plants and animals ha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itochond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9400" y="3635280"/>
            <a:ext cx="785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many carbons are in a gluc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lecu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105520"/>
            <a:ext cx="8077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6; C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Times New Roman"/>
              </a:rPr>
              <a:t>12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O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ive the chemical equation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coholic fer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98108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yruvic 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+ NADH  →  alcohol + C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+  NAD</a:t>
            </a:r>
            <a:r>
              <a:rPr b="1" lang="en-US" sz="28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6760" y="3352680"/>
            <a:ext cx="7462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ellular respiration begins with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thway called 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39625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glyco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8600" y="281952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will the citric acid that is produced here go nex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will happen to the C’s in citric acid that came from Acetyl-Co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1920" y="4038480"/>
            <a:ext cx="74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ycle through the Krebs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0" r="0" b="17242"/>
          <a:stretch/>
        </p:blipFill>
        <p:spPr>
          <a:xfrm>
            <a:off x="228600" y="304920"/>
            <a:ext cx="8334360" cy="2286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50320" y="6046920"/>
            <a:ext cx="7467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eleased into atmosphere as CO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2280" y="6858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fter glycolysis, what determines which pathway pyruvic acid will foll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6560" y="2438280"/>
            <a:ext cx="672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resence or absence of oxy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3360" y="3635280"/>
            <a:ext cx="797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e two kinds of fer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457200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Lactic acid and alcohol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e or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ycolysis releases a great deal of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2880" y="1676520"/>
            <a:ext cx="886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alse; only a net of 2 ATP and 2 NAD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6680" y="3505320"/>
            <a:ext cx="888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3 carbon molecule produced du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lycolysis is 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41911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Pyruvic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52280" y="6858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y can’t the energy in gluc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 released in just one ste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828800"/>
            <a:ext cx="84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oo much at once; most of the ener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ould be lost as light and he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7240" y="3635280"/>
            <a:ext cx="749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ere does glycolysis take pl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45720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In the cytoplasm outside the mitochond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many ATP’s must be added to get glycolysis star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40800" y="1981080"/>
            <a:ext cx="194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2 ATP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2680" y="3657600"/>
            <a:ext cx="822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y can glycolysis supply ener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cells when oxygen is not availa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54864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Glycolysis does NOT require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880" y="2666520"/>
            <a:ext cx="876312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which of these organisms would you expect to find cellular respiration happening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4520" y="4876920"/>
            <a:ext cx="792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of them; all living things need 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ake ATP for ener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1485720" cy="1685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962520" y="53352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04920" y="609480"/>
            <a:ext cx="2133360" cy="1371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019920" y="304920"/>
            <a:ext cx="1085760" cy="1625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rcRect l="0" t="47996" r="50005" b="0"/>
          <a:stretch/>
        </p:blipFill>
        <p:spPr>
          <a:xfrm>
            <a:off x="7315200" y="457200"/>
            <a:ext cx="1473120" cy="1523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73320" y="1981080"/>
            <a:ext cx="81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ls               green plants        Fungi                   humans            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7520" y="6248520"/>
            <a:ext cx="507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http://ag.ansc.purdue.edu/sheep/ansc442/Semprojs/2003/spiderlamb/eatsheep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many ATP’s are produc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uring glycolys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5600" y="1676520"/>
            <a:ext cx="759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4 ATP’s are produced, but it too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2 ATP’s to get started so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et of 2 ATP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9600" y="3886200"/>
            <a:ext cx="8559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problem does a cell have when 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enerates large amounts of ATP us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ly glycolys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56674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Once all the available NAD</a:t>
            </a:r>
            <a:r>
              <a:rPr b="1" lang="en-US" sz="3600" spc="-1" strike="noStrike" baseline="30000">
                <a:solidFill>
                  <a:srgbClr val="333399"/>
                </a:solidFill>
                <a:latin typeface="Times New Roman"/>
              </a:rPr>
              <a:t>+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arriers are filled up &amp; glycolysis will st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ich molecule is regenerated during fermentation that allows cells to continue to make ATP using glycolysis when oxygen is l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65040" y="2666880"/>
            <a:ext cx="144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AD</a:t>
            </a:r>
            <a:r>
              <a:rPr b="1" lang="en-US" sz="4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2840" y="3581280"/>
            <a:ext cx="794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e 3 pathways that make u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ellular respiration in ord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495288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Glyco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Electron transport ch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5345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l its lo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 Krebs cycle happens = 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 is the Electron Transport Chai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nd = 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ons accumulat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ring electron transport = 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ce where glyco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ppens= 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88560" y="10666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30640" y="388620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057400" y="26668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8840" y="571500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54680" y="0"/>
            <a:ext cx="394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  <a:ea typeface="Arial"/>
              </a:rPr>
              <a:t>©</a:t>
            </a: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Pearson Education Inc; Publishing as Pearson Prentice Hall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019840" y="3048120"/>
            <a:ext cx="41241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 of fermentation used to make yogurt, cheese, saurkraut, kimchi, buttermilk, et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51160" y="2286000"/>
            <a:ext cx="551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actic acid fer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3640" y="3048120"/>
            <a:ext cx="837684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energy produced by electr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ssing down the Electron Trans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ain are used to move which io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o the intermembrane space?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54864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en-US" sz="3600" spc="-1" strike="noStrike" baseline="30000">
                <a:solidFill>
                  <a:srgbClr val="333399"/>
                </a:solidFill>
                <a:latin typeface="Times New Roman"/>
              </a:rPr>
              <a:t>+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ions are pumped from the matrix and accumulate in the intermembrane sp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parts of cellular respiration require oxy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3280" y="1752480"/>
            <a:ext cx="874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Krebs cycle &amp; Electron transport ch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080" y="3733920"/>
            <a:ext cx="751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y is the Krebs cycle also call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citric acid cyc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52578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itric acid is the first compound form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during the 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ich kind of fermentation pu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air holes in br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85880" y="2209680"/>
            <a:ext cx="752328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coholic fermentation rele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Times New Roman"/>
              </a:rPr>
              <a:t>2 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ubbles which pop and lea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les in the br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280" y="4495680"/>
            <a:ext cx="8148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final electron accep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t the end of the Electron Trans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90920" y="586728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-360" y="380880"/>
            <a:ext cx="85345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alcoholic fermentation is what makes bread rise, why don’t we get intoxicated from eating the brea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9000" y="2209680"/>
            <a:ext cx="773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cohol evaporates during coo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32200" y="4162320"/>
            <a:ext cx="827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uring short term exercise cells are us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ich pathway to provide energ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ctic acid fermentation        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62164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lactic acid fer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happens to the C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duced when pyruvic acid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roken dow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9800" y="2590920"/>
            <a:ext cx="736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t is released into the atmosp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9400" y="3635280"/>
            <a:ext cx="8250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energy tally fro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 molecule of pyruvic acid during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rebs cyc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5486400"/>
            <a:ext cx="8077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 NADH, 1FADH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, and 1 AT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60080" y="4019400"/>
            <a:ext cx="7099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re is the intermembrane sp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this diagra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ich ion is moving across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mbrane at the purple arrow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83440" y="4724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7010640" cy="4005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178760" y="5867280"/>
            <a:ext cx="71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en-US" sz="40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re will the NAD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duced in th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action go nex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oxygen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re will the pyruvic acid go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xt if oxygen is 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80" y="3809880"/>
            <a:ext cx="614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o electron transport ch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59436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Into mitochondria and 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095880" y="228600"/>
            <a:ext cx="2778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ich 2 carriers for high energy electrons are used during cellular respir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9240" y="2209680"/>
            <a:ext cx="4833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ADH   and   FADH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4360" y="3581280"/>
            <a:ext cx="876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e organelle where glucose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urned and the energy is stored as AT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533412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mitochond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839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ly about 38% of the energy in glucose is recovered during cellular respiration, what happens to the re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2057400"/>
            <a:ext cx="815328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eleased as heat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doesn’t sound that good, but that’s more efficient than the typical car engine is at burning gaso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5080" y="3886200"/>
            <a:ext cx="8530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movement of which ion acro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inner mitochondrial membra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uses ATP synthase to spin and ma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T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0" y="5867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en-US" sz="36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rcRect l="0" t="37426" r="0" b="0"/>
          <a:stretch/>
        </p:blipFill>
        <p:spPr>
          <a:xfrm>
            <a:off x="3114720" y="228600"/>
            <a:ext cx="6029280" cy="43768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600" y="228600"/>
            <a:ext cx="3506040" cy="44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re do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C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duc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re go nex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40" y="2819520"/>
            <a:ext cx="395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released 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he atmosp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79440" y="301680"/>
            <a:ext cx="6543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actions that happe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thout oxygen are calle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 Calorie = ________ cal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79040" y="1523880"/>
            <a:ext cx="229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nerob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05680" y="342900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orage form of glucose used 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imal cells that supplies long te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ergy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19880" y="2590920"/>
            <a:ext cx="207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lyco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0920" y="4191120"/>
            <a:ext cx="756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ich molecule do cells bur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ergy once glucose and glycog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used 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5638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f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re does the Krebs cycle take pl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31160" y="1447920"/>
            <a:ext cx="496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itochondrial Matr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350532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ere is the Electron Transport Chain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3880" y="510552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Inner mitochondrial membra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crista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09600" y="3352680"/>
            <a:ext cx="455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me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 produc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f the Krebs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56920" y="5334120"/>
            <a:ext cx="5429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, NADH, FADH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, AT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24196" t="42628" r="0" b="0"/>
          <a:stretch/>
        </p:blipFill>
        <p:spPr>
          <a:xfrm>
            <a:off x="2971800" y="152280"/>
            <a:ext cx="587700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6840" y="380520"/>
            <a:ext cx="8381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ich enzyme helper molec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acts with pyruvic acid 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Acetyl-Co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11240" y="2438280"/>
            <a:ext cx="530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enzyme A  OR   Co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350532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 which side of the membrane is ATP produced during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lectron Transport Chain reac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828800" y="55627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Mitochondrial matr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09120" y="380520"/>
            <a:ext cx="8153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happens to pyruvic ac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uring the Krebs cyc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4160" y="1905120"/>
            <a:ext cx="833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t is broken down into carbon diox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a series of step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7680" y="3581280"/>
            <a:ext cx="7442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ecause fermentation does NO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quire oxygen it is said to 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48769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anaerob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7631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marathon runner needing energy for an EXTENDED PERIOD of time is getting his/her ATP from 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phot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lactic acid fer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alcoholic fer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 cellular re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4280" y="3962520"/>
            <a:ext cx="500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- cellular respi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763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athlete needing a QUICK BURST of energy for a 50 yard dash is getting his/her ATP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cellular respir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alcoholic fer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lactic acid ferm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 electron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6080" y="3962520"/>
            <a:ext cx="597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- lactic acid fer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7040" y="0"/>
            <a:ext cx="8886960" cy="5562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666880" y="480060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ich molecule acts as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st electron acceptor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ke wat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63800" y="3581280"/>
            <a:ext cx="73836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rcRect l="0" t="37426" r="0" b="0"/>
          <a:stretch/>
        </p:blipFill>
        <p:spPr>
          <a:xfrm>
            <a:off x="3114720" y="228600"/>
            <a:ext cx="6029280" cy="43768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040" y="228600"/>
            <a:ext cx="7704720" cy="56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re do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FAD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duc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re go nex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re does the ATP produc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re 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40" y="2819520"/>
            <a:ext cx="387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o the Electr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ransport ch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20960" y="5257800"/>
            <a:ext cx="386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Used by cell f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ellular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many carbons are i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molecule of citric ac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30440" y="1828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6600" y="3429000"/>
            <a:ext cx="8684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uring long term exercise, like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rathon race or a soccer game, whi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thway is used by your muscles 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ke AT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581280" y="556272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ellular respi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cause the Krebs cycle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ectron Transport Chain REQU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xygen, they are said to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49000" y="2590920"/>
            <a:ext cx="178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erob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880" y="3733920"/>
            <a:ext cx="895284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happens to the NADH and FAD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duced during cellular respir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54864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Their electrons enter the Electron Transport Ch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86960" cy="55627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87240" y="4876920"/>
            <a:ext cx="7800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ich ion is being pumped a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embrane at the purple arr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uring electron transpor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082880" y="152280"/>
            <a:ext cx="6890760" cy="4013280"/>
            <a:chOff x="1082880" y="152280"/>
            <a:chExt cx="6890760" cy="4013280"/>
          </a:xfrm>
        </p:grpSpPr>
        <p:sp>
          <p:nvSpPr>
            <p:cNvPr id="215" name=""/>
            <p:cNvSpPr/>
            <p:nvPr/>
          </p:nvSpPr>
          <p:spPr>
            <a:xfrm>
              <a:off x="1082880" y="533160"/>
              <a:ext cx="718560" cy="70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r>
                <a:rPr b="1" lang="en-US" sz="4000" spc="-1" strike="noStrike" baseline="30000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378160" y="380880"/>
              <a:ext cx="718560" cy="70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r>
                <a:rPr b="1" lang="en-US" sz="4000" spc="-1" strike="noStrike" baseline="30000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97480" y="152280"/>
              <a:ext cx="718560" cy="70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r>
                <a:rPr b="1" lang="en-US" sz="4000" spc="-1" strike="noStrike" baseline="30000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255080" y="3462120"/>
              <a:ext cx="718560" cy="70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r>
                <a:rPr b="1" lang="en-US" sz="4000" spc="-1" strike="noStrike" baseline="30000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 NADH carrier produces ___ AT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om electron trans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49960" y="3808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2280" y="2895480"/>
            <a:ext cx="838692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y does 1 molecule of FAD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produce only 2 ATP during electron transp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50292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It comes in farther down the electron transport chain than NAD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83818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does the Electron Transport Chain get the high energy electrons that are passed down the cha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94720" y="1981080"/>
            <a:ext cx="5665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rom NADH and FADH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5200" y="3124080"/>
            <a:ext cx="8277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does the location of the Electr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ansport Chain differ in eukary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prokaryo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505764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n eukaryotes it is in the inner mitochondrial membrane; in bacteria the chain is in the cell membrane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remember. . .no membrane bound organelles in bacteri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happens to the lactic ac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duced during intense exercis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66440" y="2743200"/>
            <a:ext cx="6449040" cy="10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t is broken down later wh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oxygen is avail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9760" y="4267080"/>
            <a:ext cx="809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fter glucose &amp; glycogen stores a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ed up, cells start to burn 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energ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010280" y="4876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F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e reactants of cellular respi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06360" y="1828800"/>
            <a:ext cx="5587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and glucose (C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Times New Roman"/>
              </a:rPr>
              <a:t>6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Times New Roman"/>
              </a:rPr>
              <a:t>12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Times New Roman"/>
              </a:rPr>
              <a:t>6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8080" y="3733920"/>
            <a:ext cx="772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e products formed during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5334120"/>
            <a:ext cx="83059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0, carbon dioxide, energy (AT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me the 4 products released during the Krebs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me this re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73960" y="2209680"/>
            <a:ext cx="59371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, NADH, FADH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, AT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47920" y="487692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glyco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867280" y="2971800"/>
            <a:ext cx="2778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0773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many carbon atoms are 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molecule of gluco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20960" y="2057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32560" y="3505320"/>
            <a:ext cx="832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e stage of cellular respi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t follows glyco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54864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many carbons are i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yruvic acid molecu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44640" y="1828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5200" y="3276720"/>
            <a:ext cx="86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 the overall equation for cellular re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91120"/>
            <a:ext cx="807732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6 O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+ C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Arial"/>
              </a:rPr>
              <a:t>12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Arial"/>
              </a:rPr>
              <a:t>6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→  6 CO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2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+  6 H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 + energy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re does t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action happ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re will the pyruvic acid go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xt if oxygen is NOT 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3440" y="1981080"/>
            <a:ext cx="379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the cytopla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59436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Stays in cytoplasm and does fer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334120" y="228600"/>
            <a:ext cx="3414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85920" y="4114800"/>
            <a:ext cx="8193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ere is the matrix in this diagr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red molecule is the diagram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82720" y="47242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010640" cy="40053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842040" y="58672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TP synth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88800" y="304920"/>
            <a:ext cx="8750160" cy="50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other name for the inner membran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a mitochondrion is the 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happens to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produced in t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a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249960" y="990720"/>
            <a:ext cx="16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rista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7000" y="5181480"/>
            <a:ext cx="703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Released i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tmosphere when we exh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2619360" cy="34480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7319520" y="6400800"/>
            <a:ext cx="157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99"/>
                </a:solidFill>
                <a:latin typeface="Arial"/>
              </a:rPr>
              <a:t>DIAGRAM BY RIED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228240" y="151920"/>
            <a:ext cx="89154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me the path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ons and oxygen form water 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ctic acid is formed in muscles 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lucose molecule is broken dow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 2 pyruvic acid molecules  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ons build up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membrane space  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tric acid is broken dow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series of steps into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27400" y="609480"/>
            <a:ext cx="342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Electron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867280" y="2666880"/>
            <a:ext cx="183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glyco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81480" y="15238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actic acid fer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60360" y="4089240"/>
            <a:ext cx="342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Electron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105160" y="5384880"/>
            <a:ext cx="220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Krebs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228240" y="151920"/>
            <a:ext cx="89154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me the path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cohol and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produc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pyruvic aci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 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etyl Co-A joins a 4 car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ecule to make citric acid 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ons pass from the inter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ce into the matrix to make ATP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xygen acts as the la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 acceptor and makes water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1400" y="1066680"/>
            <a:ext cx="417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lcoholic fer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331960" y="3657600"/>
            <a:ext cx="342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Electron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800600" y="22860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Krebs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484600" y="4876920"/>
            <a:ext cx="342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Electron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re will the NAD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duced in th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action go nex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oxygen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re will the pyruvic acid go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xt if oxygen is 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880" y="3809880"/>
            <a:ext cx="614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o electron transport ch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59436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Into mitochondria and 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6095880" y="228600"/>
            <a:ext cx="2778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re does t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action happ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re will the pyruvic acid go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xt if oxygen is NOT 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3440" y="1981080"/>
            <a:ext cx="379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the cytopla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59436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Stays in cytoplasm and does fer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5334120" y="304920"/>
            <a:ext cx="3414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re does t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action happ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re will the pyruvic acid go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xt if oxygen is NOT 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3440" y="1981080"/>
            <a:ext cx="379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the cytopla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59436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Stays in cytoplasm and does fer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5334120" y="304920"/>
            <a:ext cx="3414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51920" y="277920"/>
            <a:ext cx="8719560" cy="58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happens to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produced in 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etyl-CoA will join next with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 carbon molecule to make 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9960" y="2362320"/>
            <a:ext cx="4492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Released in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tmosphere wh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e exh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02600" y="5486400"/>
            <a:ext cx="23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itric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952880" y="457200"/>
            <a:ext cx="3699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09240" y="990720"/>
            <a:ext cx="53089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re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ppens on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trix side of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mbrane wh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TP synthase spi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041720" y="4648320"/>
            <a:ext cx="421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 phosph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is added to AD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o make AT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rcRect l="21975" t="0" r="0" b="0"/>
          <a:stretch/>
        </p:blipFill>
        <p:spPr>
          <a:xfrm>
            <a:off x="4876920" y="0"/>
            <a:ext cx="460044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-360" y="304560"/>
            <a:ext cx="937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e the equation for PHOTOSYNTH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low with the equation for 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6 C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+  6 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 + ENERGY  → 6 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+ C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0200" y="2743200"/>
            <a:ext cx="89773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6 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+ C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→  6 C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+  6 H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 +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ellular respiration is the reverse of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289548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me the 6 carbon molecule formed in this re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happens to the Coenzyme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fter dropping off its 2 carb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41360" y="3581280"/>
            <a:ext cx="263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itric ac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9680" y="5715000"/>
            <a:ext cx="80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ecycles back and picks up 2 mo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arbons from pyruvic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0" r="0" b="17242"/>
          <a:stretch/>
        </p:blipFill>
        <p:spPr>
          <a:xfrm>
            <a:off x="380880" y="304920"/>
            <a:ext cx="8334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0520" y="533160"/>
            <a:ext cx="8534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ATP’s are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each molecule of glucose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etes cellular respiration all the way through the Electron transport ch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84320" y="2514600"/>
            <a:ext cx="52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36 ATP’s are produc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3760" y="3581280"/>
            <a:ext cx="7320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Krebs cycle is also called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_ cyc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19112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itric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87631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ich pathway generates the most energy from gluco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RMENT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35160" y="2438280"/>
            <a:ext cx="44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ellular respi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2200" y="3505320"/>
            <a:ext cx="8238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ich stage of respiration generat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most AT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4267080"/>
            <a:ext cx="7924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LECTRON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Glycolysis = 2 ATP(ne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Krebs cycle = 2 ATP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lectron transport chain = 32 ATP (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1:18:38Z</dcterms:created>
  <dc:creator>Becca Riedell</dc:creator>
  <dc:description/>
  <dc:language>en-US</dc:language>
  <cp:lastModifiedBy>Becca Riedell</cp:lastModifiedBy>
  <dcterms:modified xsi:type="dcterms:W3CDTF">2007-02-11T17:36:46Z</dcterms:modified>
  <cp:revision>22</cp:revision>
  <dc:subject/>
  <dc:title>NAME OF GAME</dc:title>
</cp:coreProperties>
</file>